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116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115.jpeg" ContentType="image/jpe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19.jpeg" ContentType="image/jpe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90.png" ContentType="image/png"/>
  <Override PartName="/ppt/media/image47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121.jpeg" ContentType="image/jpe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79.png" ContentType="image/png"/>
  <Override PartName="/ppt/media/image68.jpeg" ContentType="image/jpeg"/>
  <Override PartName="/ppt/media/image67.png" ContentType="image/png"/>
  <Override PartName="/ppt/media/image120.jpeg" ContentType="image/jpeg"/>
  <Override PartName="/ppt/media/image66.png" ContentType="image/png"/>
  <Override PartName="/ppt/media/image117.jpeg" ContentType="image/jpeg"/>
  <Override PartName="/ppt/media/image65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58.png" ContentType="image/png"/>
  <Override PartName="/ppt/media/image1.jpeg" ContentType="image/jpeg"/>
  <Override PartName="/ppt/media/image118.png" ContentType="image/png"/>
  <Override PartName="/ppt/media/image21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B220F-63E6-41FB-9719-4B468120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3FE1B-5FA2-49F9-8F0B-2F596B64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1CC7F-2F0A-40DF-BD55-9691F2F0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DFDA9-EB26-459B-82FA-17E14EEE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D5D8F-924A-4DFE-9E45-67AE1C7B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221B3-6155-4F25-B43B-02A51B75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D84A3-7BDF-48EE-AA65-8D171364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DAC50-3899-468E-8C66-A1D60CBA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BCEC7-9947-40A6-BE5F-E92D8D77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22EAC-FD14-4FBE-804F-8989674D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33451-16DB-43AA-8E5F-E545C20C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49F75-C6C5-4D00-AC25-53CB37B9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BCBFF-B731-4227-99E4-EE9427BD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89DA0-E231-403A-A18D-FBFDAB2C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9146B-EBCD-4DF9-A577-2A73F42A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3BE40-28CB-4DE9-90AE-3DA34EAD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09081-8A19-4D36-9A21-5FB30C5E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84F20-A4B7-46AB-8115-883A540D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F2FD1-7A2B-4BF5-9FF9-A50EF270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1F172-26AE-4433-AE5D-47652CBC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4C0C9-26B1-4739-B2B6-1D7997EE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3F09F-9395-4F27-9EB2-4FB885BE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C250F-24CF-477A-8172-5B95D23E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BD8C5-D2D5-4D9A-8E9A-4727838B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4A5ED-1B69-4F5E-BC87-3BF42BD1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C07FA-AD91-4F91-9537-FE854C46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47B78-8BBE-43E0-A6C4-1357E123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D3D9D-0FD9-49E5-904C-6833D672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C98E5-717B-4B94-9E43-AB7F7C5F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B0407-8644-46E7-98FA-F72677B7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AE6FA-B56B-4ED4-920D-402B88F5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39936-E66B-4409-81CD-1F4BC5E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D3AD6-98FE-45A8-8A4C-4DD93B4B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7ADAD-372B-43EC-882A-26971188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0318-A1C5-4FB5-8944-E2AA9B1D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A6B58-F6CF-40E9-800E-6075E409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E5D81-267B-41A3-8CA1-0B96DABA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30FAD-45F5-4792-88A7-8095563C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D797E-DE95-4849-B7B7-927E8D55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D95D8-BEA9-44D4-914A-8F59E763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326BD-E42D-457F-98B8-5F1CE2BC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A7ECE-7046-45BC-B4C2-2787D9AD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F4DB8-DED9-44E4-A48B-2ADD9B4B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7B747-4B55-4831-9E44-4F53EAE2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6D534-C2C1-4F01-921F-B7581428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A05A-5410-4086-AA5E-503E1803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3CCB6-6E54-4CCE-A381-AAF4E45B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9F1BE-1069-4130-AB26-3CFD70D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5D0A4-7579-4EBF-88F0-96782A5D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F85B7-F0FE-4C6E-AE8E-5D118D7E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F6753-2E59-4D99-9D55-E6480D58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25CFC-590C-4FFC-AD26-B929F5FE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1E053-709B-4C95-8457-1261C5FC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E2D3E-2A48-435C-8671-71D11BDB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22F93-D9ED-414C-BE59-53ABF899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CE929-78E1-48F8-8327-37F86759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AF82-6790-4D37-BCBD-F141778D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056EC-7847-45CB-8241-52A04413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2D877-C506-49AA-B46B-506B5821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9FCDD-4423-47C9-888E-77248D55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F90D2-E982-421D-9779-C65E6C07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24AB2-96CE-415B-9E60-24E4096F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DF801-8DCA-4779-B270-6370BD97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980A8-10CF-44BC-8C1F-07720B67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E711D-CB4D-4F8D-AEC2-13B6C1E2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29992-0075-4A87-8512-4D26BC15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618A7-C74E-4DCF-A209-F31FA47B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59BC-7127-42B4-A9B0-F1BAF935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2EC2D7-6B03-4C1D-81A9-B0FC5332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DD349-635B-4085-ABED-23BB14CC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DE268-3784-400E-90E7-0F220EEE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D52B4-1E89-4DBE-A8FA-90B2F446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6F349-02C9-4A97-9E6E-2FAF159F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2E2E1-E5A3-4429-A282-17DCFDB2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10A8D-EA0F-490F-9BE4-1C891F34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D7F01-05B6-446F-B50F-3E84BEE3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8EC94-2FAB-46D6-8786-3AE2134A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1541-61D8-4ED3-B378-19AA769C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40B6-6DB6-4835-B7AA-D5D556C1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2903-2090-4321-8C41-54CE8085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9472B-2C71-494D-8ECE-59CC96E8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5BBF-DA3C-45CF-82FE-5765D81D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561D-D359-437C-A0BE-2D8A36EE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7B61-E4D4-4207-86C0-517B3092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A530-789A-4433-893C-71E0EE8A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235D-554F-482B-97B0-59A0588E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5CD27-9772-48EE-B1FE-E2A5E711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9F2FD-76D7-4064-9A6F-30B267E0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88E11-1FC3-46E9-8F31-9314CC16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ECF71-A1ED-41D8-AF22-765FB7BE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BA525-8359-4C96-87D1-458665EA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B1B0A-DF5D-4BDD-8C90-9B36BB90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A78E-C265-4F2A-8FD1-94728C9D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EECB3-8FA5-46AB-91DA-6C1F6487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61379-54C4-4139-9375-F9379030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DCB34-E117-4D14-B97F-3FB0D44E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C9581-BBAC-4171-B0B5-2F1FD142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EEF33-FB31-415E-80D7-4CF1E1D5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0E496-A67E-4F4C-BBBF-B8E82FF7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12C92-8546-4260-AFE7-12D19318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E63EA-ADE5-481F-B1D8-22D8C055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88BD4-5A50-4169-A0F7-E7F8EE61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F097-93E7-4A4B-97AE-F145B8A6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F05C0-3D06-4825-BAFA-45947C90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2AD7-9D40-4A1C-B13A-3031AA8A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BBE0E-EFDF-4B75-8F6C-01019C53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CF2D3-13E0-4D84-B017-FDB0C325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B134F-7A4B-4BF3-8B58-BBC83C7E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A48B3-897D-45E8-8835-AC402EE1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642F9-EAD0-4C9D-AB8E-ED6F5E65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F5A75-BDD1-4227-86A3-C317BCFB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E5C7-2EB2-46A2-8303-C6790B4F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21B6B-A759-45C8-897D-91ACF71B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4412-4D7B-4B23-9C86-E74005E5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EBBA3-00BA-46B2-8DF7-F0173D90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D2405-A563-4E46-8C00-8CBEC137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27344-3805-4387-A57B-7CA651CB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FE629-4D58-4B89-8A74-A66C6EBE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BE893-8B12-41CA-B330-33CD3493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E47C0-2F26-4320-91DD-79AD0B66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C826F-FDB1-4DCB-93A5-6DA9D626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059BB-4E22-48BC-BB17-C6C9257B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7C3B7-85FC-4B39-A185-42031DE6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C9CE1-07F6-4178-A5AC-D40BC3DA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BCCE-96D2-4D8D-B7A9-555A8843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C1217-55FE-4C8D-A530-1A68DC60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4B6E7-EEC2-4243-B972-36B42E28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60AF2-3C25-44BC-8F93-25205950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65F12-0A6C-4FAE-B555-48D74C09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6FEA3-981E-460E-823E-3A4A372D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BC755-7A3D-40E3-B40E-9BA3DA61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E5C14-6AE5-4DA0-8878-AB2AC3DF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52440-9590-4CAF-9D46-33C6F727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3C294-4B19-41D6-A136-5D497A30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65E8E-50EC-4CAD-834A-7EBB9D3A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BF45E-B156-4C36-9C0F-F8CA7124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5675F-DBAA-4058-B47A-84357692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CCBD3-9FF5-4778-BB3A-2A10DDC9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DD82F-3C9D-4850-9390-9D6006A9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5705D-4B6A-47F3-ADF9-746E4240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0C1B3-B7FA-4F47-949B-73791265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3D656-3A40-4F7A-BAAB-A1A6F152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9BA95-436B-4FFB-B6E9-1F257B17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ECA4E-5A6D-4BC6-9B5D-CD9B264B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8BD42-85D2-48EB-BC5F-91B29B38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0641F-B367-40FD-8256-39E45D86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846BF-9A16-4F72-9C86-ECB4BFB4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9B029-09DF-4C53-AD45-39B9A56A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F3F42-1B8C-4B25-B481-135345BF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16E26-A226-4689-80E7-9D7CBA82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D8D10-A97D-4ED1-AE9F-2B0A87F3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1E1D7-154F-4A89-AE4B-0CA97253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02826-7F38-429F-B1BE-65E63D1E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8B4A9-FE6C-41B4-A431-1C9C7CA8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A88E0-BED2-4B5C-B1B0-AD5E513E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44F9F-B17B-4B61-B773-ED1EB05B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873F6-302C-4885-BE39-3107A7C1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5D369-613E-4555-826E-711FE9EA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AAA53-A100-46F1-AF8C-EDFA42C2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4FAB7-F5E7-4318-AE99-03394266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01E83-654C-4989-A870-9482317A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AF1C9-0A3F-42F8-9944-802B4B86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6EF1C-FD27-466D-A3A6-6CC02032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48ADC-C6B3-4C57-9670-2DCA2286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C7277-96A0-4AF5-850D-301CB59A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736E4-0F50-4F6D-9F9F-E02C8972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2D376-501E-4B4C-8291-FE3F6FD3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5745A-B747-4476-ABCB-E524D543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537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203004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39840" indent="-339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6960" indent="-22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4160" indent="-22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4160" indent="-22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4160" indent="-22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60000" y="19080"/>
            <a:ext cx="9178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060720" y="71992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CA3CFB8D-4C74-400E-8615-A7E01255E01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D0B434D0-DCFD-457E-B373-7341E7C3F5A2}" type="slidenum">
              <a:rPr b="0" lang="ru-RU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C9967E84-E022-4DDA-8130-44B09ED33DF0}" type="slidenum">
              <a:rPr b="0" lang="ru-RU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B14D7EC3-34DF-45CD-8316-C971C57B8092}" type="slidenum">
              <a:rPr b="0" lang="ru-RU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974E5563-66C7-4566-BC8E-790D3FDE1C41}" type="slidenum">
              <a:rPr b="0" lang="ru-RU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7F336526-2CE4-4CAC-99B1-F545930AEF02}" type="slidenum">
              <a:rPr b="0" lang="ru-RU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6120" indent="-312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2494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2200" indent="-2494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5480" indent="-2494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5480" indent="-2494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5480" indent="-24948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CA6BF3B8-96C7-45D9-8C98-8FDFBA0A8642}" type="slidenum">
              <a:rPr b="0" lang="ru-RU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92B11B07-3153-499D-B44A-D42F3CC0C6F2}" type="slidenum">
              <a:rPr b="0" lang="ru-RU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6B04DAE1-2CB6-43A9-908A-97196C69F009}" type="slidenum">
              <a:rPr b="0" lang="ru-RU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CE341FC3-B929-422F-8F19-C5783832387C}" type="slidenum">
              <a:rPr b="0" lang="ru-RU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FC93486A-B8AF-48AB-9134-0802068ADCBB}" type="slidenum">
              <a:rPr b="0" lang="ru-RU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D7C00FF5-98DC-430F-AFE7-06FC45A3725A}" type="slidenum">
              <a:rPr b="0" lang="ru-RU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980DA921-C3B7-45FB-BD73-2036D2B2B22F}" type="slidenum">
              <a:rPr b="0" lang="ru-RU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  <a:defRPr b="0" lang="ru-RU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fld id="{3CA22CE6-1DAF-4369-93BB-96604D1FB689}" type="slidenum">
              <a:rPr b="0" lang="ru-RU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16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16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2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59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hyperlink" Target="http://www.legionr.ru/" TargetMode="External"/><Relationship Id="rId10" Type="http://schemas.openxmlformats.org/officeDocument/2006/relationships/image" Target="../media/image68.jpe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60.png"/><Relationship Id="rId5" Type="http://schemas.openxmlformats.org/officeDocument/2006/relationships/image" Target="../media/image68.jpe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60.png"/><Relationship Id="rId3" Type="http://schemas.openxmlformats.org/officeDocument/2006/relationships/image" Target="../media/image65.png"/><Relationship Id="rId4" Type="http://schemas.openxmlformats.org/officeDocument/2006/relationships/image" Target="../media/image74.png"/><Relationship Id="rId5" Type="http://schemas.openxmlformats.org/officeDocument/2006/relationships/image" Target="../media/image68.jpe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61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81.png"/><Relationship Id="rId8" Type="http://schemas.openxmlformats.org/officeDocument/2006/relationships/image" Target="../media/image8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69.png"/><Relationship Id="rId3" Type="http://schemas.openxmlformats.org/officeDocument/2006/relationships/image" Target="../media/image77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103.png"/><Relationship Id="rId12" Type="http://schemas.openxmlformats.org/officeDocument/2006/relationships/image" Target="../media/image104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image" Target="../media/image109.png"/><Relationship Id="rId7" Type="http://schemas.openxmlformats.org/officeDocument/2006/relationships/image" Target="../media/image110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112.png"/><Relationship Id="rId4" Type="http://schemas.openxmlformats.org/officeDocument/2006/relationships/image" Target="../media/image113.png"/><Relationship Id="rId5" Type="http://schemas.openxmlformats.org/officeDocument/2006/relationships/image" Target="../media/image11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image" Target="../media/image1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jpeg"/><Relationship Id="rId3" Type="http://schemas.openxmlformats.org/officeDocument/2006/relationships/image" Target="../media/image120.jpeg"/><Relationship Id="rId4" Type="http://schemas.openxmlformats.org/officeDocument/2006/relationships/image" Target="../media/image121.jpe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16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0" y="1403280"/>
            <a:ext cx="59770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0" bIns="5040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9408960"/>
                <a:tab algn="l" pos="9813960"/>
                <a:tab algn="l" pos="10260000"/>
                <a:tab algn="l" pos="10706040"/>
              </a:tabLst>
            </a:pPr>
            <a:r>
              <a:rPr b="1" lang="ru-RU" sz="6000" spc="-1" strike="noStrike">
                <a:solidFill>
                  <a:srgbClr val="000080"/>
                </a:solidFill>
                <a:latin typeface="Calibri"/>
              </a:rPr>
              <a:t>Решение неравенств методом рационализ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216000" y="6083280"/>
            <a:ext cx="532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ладчик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68536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абухов Сергей Юрь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5904000" y="1116000"/>
            <a:ext cx="4176720" cy="593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969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" descr=""/>
          <p:cNvPicPr/>
          <p:nvPr/>
        </p:nvPicPr>
        <p:blipFill>
          <a:blip r:embed="rId2"/>
          <a:stretch/>
        </p:blipFill>
        <p:spPr>
          <a:xfrm>
            <a:off x="468360" y="851040"/>
            <a:ext cx="3857400" cy="4824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" descr=""/>
          <p:cNvPicPr/>
          <p:nvPr/>
        </p:nvPicPr>
        <p:blipFill>
          <a:blip r:embed="rId3"/>
          <a:stretch/>
        </p:blipFill>
        <p:spPr>
          <a:xfrm>
            <a:off x="396720" y="1422360"/>
            <a:ext cx="6797880" cy="12859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4"/>
          <a:stretch/>
        </p:blipFill>
        <p:spPr>
          <a:xfrm>
            <a:off x="325440" y="3637080"/>
            <a:ext cx="7362720" cy="5713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1" descr=""/>
          <p:cNvPicPr/>
          <p:nvPr/>
        </p:nvPicPr>
        <p:blipFill>
          <a:blip r:embed="rId5"/>
          <a:stretch/>
        </p:blipFill>
        <p:spPr>
          <a:xfrm>
            <a:off x="396720" y="2994120"/>
            <a:ext cx="7072560" cy="6555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"/>
          <p:cNvPicPr/>
          <p:nvPr/>
        </p:nvPicPr>
        <p:blipFill>
          <a:blip r:embed="rId6"/>
          <a:stretch/>
        </p:blipFill>
        <p:spPr>
          <a:xfrm>
            <a:off x="254160" y="4351320"/>
            <a:ext cx="3929040" cy="5554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7" descr=""/>
          <p:cNvPicPr/>
          <p:nvPr/>
        </p:nvPicPr>
        <p:blipFill>
          <a:blip r:embed="rId7"/>
          <a:stretch/>
        </p:blipFill>
        <p:spPr>
          <a:xfrm>
            <a:off x="254160" y="5065560"/>
            <a:ext cx="3929040" cy="6400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"/>
          <p:cNvPicPr/>
          <p:nvPr/>
        </p:nvPicPr>
        <p:blipFill>
          <a:blip r:embed="rId8"/>
          <a:stretch/>
        </p:blipFill>
        <p:spPr>
          <a:xfrm>
            <a:off x="396720" y="5851440"/>
            <a:ext cx="1214640" cy="4222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9" descr=""/>
          <p:cNvPicPr/>
          <p:nvPr/>
        </p:nvPicPr>
        <p:blipFill>
          <a:blip r:embed="rId9"/>
          <a:stretch/>
        </p:blipFill>
        <p:spPr>
          <a:xfrm>
            <a:off x="5040360" y="6423120"/>
            <a:ext cx="300024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1162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"/>
          <p:cNvPicPr/>
          <p:nvPr/>
        </p:nvPicPr>
        <p:blipFill>
          <a:blip r:embed="rId2"/>
          <a:stretch/>
        </p:blipFill>
        <p:spPr>
          <a:xfrm>
            <a:off x="325440" y="1279440"/>
            <a:ext cx="3643200" cy="4604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3"/>
          <a:stretch/>
        </p:blipFill>
        <p:spPr>
          <a:xfrm>
            <a:off x="5897520" y="1994040"/>
            <a:ext cx="3733920" cy="11430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"/>
          <p:cNvPicPr/>
          <p:nvPr/>
        </p:nvPicPr>
        <p:blipFill>
          <a:blip r:embed="rId4"/>
          <a:stretch/>
        </p:blipFill>
        <p:spPr>
          <a:xfrm>
            <a:off x="4397400" y="1208160"/>
            <a:ext cx="5143320" cy="6192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"/>
          <p:cNvPicPr/>
          <p:nvPr/>
        </p:nvPicPr>
        <p:blipFill>
          <a:blip r:embed="rId5"/>
          <a:stretch/>
        </p:blipFill>
        <p:spPr>
          <a:xfrm>
            <a:off x="182520" y="1994040"/>
            <a:ext cx="5429160" cy="9460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7" descr=""/>
          <p:cNvPicPr/>
          <p:nvPr/>
        </p:nvPicPr>
        <p:blipFill>
          <a:blip r:embed="rId6"/>
          <a:stretch/>
        </p:blipFill>
        <p:spPr>
          <a:xfrm>
            <a:off x="325440" y="3422520"/>
            <a:ext cx="9067680" cy="10717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8" descr=""/>
          <p:cNvPicPr/>
          <p:nvPr/>
        </p:nvPicPr>
        <p:blipFill>
          <a:blip r:embed="rId7"/>
          <a:stretch/>
        </p:blipFill>
        <p:spPr>
          <a:xfrm>
            <a:off x="396720" y="6066000"/>
            <a:ext cx="7072560" cy="10998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1" descr=""/>
          <p:cNvPicPr/>
          <p:nvPr/>
        </p:nvPicPr>
        <p:blipFill>
          <a:blip r:embed="rId8"/>
          <a:stretch/>
        </p:blipFill>
        <p:spPr>
          <a:xfrm>
            <a:off x="307800" y="4780080"/>
            <a:ext cx="7215480" cy="6699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9" descr=""/>
          <p:cNvPicPr/>
          <p:nvPr/>
        </p:nvPicPr>
        <p:blipFill>
          <a:blip r:embed="rId9"/>
          <a:stretch/>
        </p:blipFill>
        <p:spPr>
          <a:xfrm>
            <a:off x="325440" y="5351400"/>
            <a:ext cx="72151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11872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8" descr=""/>
          <p:cNvPicPr/>
          <p:nvPr/>
        </p:nvPicPr>
        <p:blipFill>
          <a:blip r:embed="rId2"/>
          <a:stretch/>
        </p:blipFill>
        <p:spPr>
          <a:xfrm>
            <a:off x="325440" y="1351080"/>
            <a:ext cx="7072200" cy="11001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3"/>
          <a:stretch/>
        </p:blipFill>
        <p:spPr>
          <a:xfrm>
            <a:off x="468360" y="2708280"/>
            <a:ext cx="7467480" cy="10555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4" descr=""/>
          <p:cNvPicPr/>
          <p:nvPr/>
        </p:nvPicPr>
        <p:blipFill>
          <a:blip r:embed="rId4"/>
          <a:stretch/>
        </p:blipFill>
        <p:spPr>
          <a:xfrm>
            <a:off x="468360" y="4065480"/>
            <a:ext cx="7429320" cy="6159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" descr=""/>
          <p:cNvPicPr/>
          <p:nvPr/>
        </p:nvPicPr>
        <p:blipFill>
          <a:blip r:embed="rId5"/>
          <a:stretch/>
        </p:blipFill>
        <p:spPr>
          <a:xfrm>
            <a:off x="539640" y="4923000"/>
            <a:ext cx="9041040" cy="10299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"/>
          <p:cNvPicPr/>
          <p:nvPr/>
        </p:nvPicPr>
        <p:blipFill>
          <a:blip r:embed="rId6"/>
          <a:stretch/>
        </p:blipFill>
        <p:spPr>
          <a:xfrm>
            <a:off x="3325680" y="6208560"/>
            <a:ext cx="600084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-36360" y="0"/>
            <a:ext cx="10117080" cy="15476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"/>
          <p:cNvPicPr/>
          <p:nvPr/>
        </p:nvPicPr>
        <p:blipFill>
          <a:blip r:embed="rId2"/>
          <a:stretch/>
        </p:blipFill>
        <p:spPr>
          <a:xfrm>
            <a:off x="325440" y="1708200"/>
            <a:ext cx="2357280" cy="4968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"/>
          <p:cNvPicPr/>
          <p:nvPr/>
        </p:nvPicPr>
        <p:blipFill>
          <a:blip r:embed="rId3"/>
          <a:stretch/>
        </p:blipFill>
        <p:spPr>
          <a:xfrm>
            <a:off x="182520" y="2430360"/>
            <a:ext cx="9144000" cy="9748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5" descr=""/>
          <p:cNvPicPr/>
          <p:nvPr/>
        </p:nvPicPr>
        <p:blipFill>
          <a:blip r:embed="rId4"/>
          <a:stretch/>
        </p:blipFill>
        <p:spPr>
          <a:xfrm>
            <a:off x="396720" y="5994360"/>
            <a:ext cx="9012240" cy="10494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" descr=""/>
          <p:cNvPicPr/>
          <p:nvPr/>
        </p:nvPicPr>
        <p:blipFill>
          <a:blip r:embed="rId5"/>
          <a:stretch/>
        </p:blipFill>
        <p:spPr>
          <a:xfrm>
            <a:off x="396720" y="4994280"/>
            <a:ext cx="8969400" cy="8049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7" descr=""/>
          <p:cNvPicPr/>
          <p:nvPr/>
        </p:nvPicPr>
        <p:blipFill>
          <a:blip r:embed="rId6"/>
          <a:stretch/>
        </p:blipFill>
        <p:spPr>
          <a:xfrm>
            <a:off x="2325600" y="3494160"/>
            <a:ext cx="764388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5" descr=""/>
          <p:cNvPicPr/>
          <p:nvPr/>
        </p:nvPicPr>
        <p:blipFill>
          <a:blip r:embed="rId1"/>
          <a:stretch/>
        </p:blipFill>
        <p:spPr>
          <a:xfrm>
            <a:off x="254160" y="1636560"/>
            <a:ext cx="9001080" cy="10479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14670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"/>
          <p:cNvPicPr/>
          <p:nvPr/>
        </p:nvPicPr>
        <p:blipFill>
          <a:blip r:embed="rId3"/>
          <a:stretch/>
        </p:blipFill>
        <p:spPr>
          <a:xfrm>
            <a:off x="182520" y="2922480"/>
            <a:ext cx="9448920" cy="5810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5" descr=""/>
          <p:cNvPicPr/>
          <p:nvPr/>
        </p:nvPicPr>
        <p:blipFill>
          <a:blip r:embed="rId4"/>
          <a:stretch/>
        </p:blipFill>
        <p:spPr>
          <a:xfrm>
            <a:off x="396720" y="6208560"/>
            <a:ext cx="6267600" cy="4762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" descr=""/>
          <p:cNvPicPr/>
          <p:nvPr/>
        </p:nvPicPr>
        <p:blipFill>
          <a:blip r:embed="rId5"/>
          <a:stretch/>
        </p:blipFill>
        <p:spPr>
          <a:xfrm>
            <a:off x="396720" y="4565520"/>
            <a:ext cx="9334800" cy="6001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1" descr=""/>
          <p:cNvPicPr/>
          <p:nvPr/>
        </p:nvPicPr>
        <p:blipFill>
          <a:blip r:embed="rId6"/>
          <a:stretch/>
        </p:blipFill>
        <p:spPr>
          <a:xfrm>
            <a:off x="896760" y="3851280"/>
            <a:ext cx="7215480" cy="6699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1" descr=""/>
          <p:cNvPicPr/>
          <p:nvPr/>
        </p:nvPicPr>
        <p:blipFill>
          <a:blip r:embed="rId7"/>
          <a:stretch/>
        </p:blipFill>
        <p:spPr>
          <a:xfrm>
            <a:off x="896760" y="5494320"/>
            <a:ext cx="7215480" cy="6699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"/>
          <p:cNvPicPr/>
          <p:nvPr/>
        </p:nvPicPr>
        <p:blipFill>
          <a:blip r:embed="rId8"/>
          <a:stretch/>
        </p:blipFill>
        <p:spPr>
          <a:xfrm>
            <a:off x="5111640" y="6662880"/>
            <a:ext cx="48434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2200" y="20649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5400" spc="-1" strike="noStrike">
                <a:solidFill>
                  <a:srgbClr val="262699"/>
                </a:solidFill>
                <a:latin typeface="Arial"/>
              </a:rPr>
              <a:t>Задачи ЕГ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1" descr=""/>
          <p:cNvPicPr/>
          <p:nvPr/>
        </p:nvPicPr>
        <p:blipFill>
          <a:blip r:embed="rId1"/>
          <a:stretch/>
        </p:blipFill>
        <p:spPr>
          <a:xfrm>
            <a:off x="1397160" y="136440"/>
            <a:ext cx="7362720" cy="561960"/>
          </a:xfrm>
          <a:prstGeom prst="rect">
            <a:avLst/>
          </a:prstGeom>
          <a:ln w="0">
            <a:noFill/>
          </a:ln>
        </p:spPr>
      </p:pic>
      <p:sp>
        <p:nvSpPr>
          <p:cNvPr id="650" name="TextBox 4"/>
          <p:cNvSpPr/>
          <p:nvPr/>
        </p:nvSpPr>
        <p:spPr>
          <a:xfrm>
            <a:off x="3182760" y="779400"/>
            <a:ext cx="3672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2"/>
          <a:stretch/>
        </p:blipFill>
        <p:spPr>
          <a:xfrm>
            <a:off x="1254240" y="1208160"/>
            <a:ext cx="2085840" cy="3427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"/>
          <p:cNvPicPr/>
          <p:nvPr/>
        </p:nvPicPr>
        <p:blipFill>
          <a:blip r:embed="rId3"/>
          <a:stretch/>
        </p:blipFill>
        <p:spPr>
          <a:xfrm>
            <a:off x="1254240" y="1636560"/>
            <a:ext cx="4381560" cy="1086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"/>
          <p:cNvPicPr/>
          <p:nvPr/>
        </p:nvPicPr>
        <p:blipFill>
          <a:blip r:embed="rId4"/>
          <a:stretch/>
        </p:blipFill>
        <p:spPr>
          <a:xfrm>
            <a:off x="1111320" y="3422520"/>
            <a:ext cx="5219640" cy="4096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" descr=""/>
          <p:cNvPicPr/>
          <p:nvPr/>
        </p:nvPicPr>
        <p:blipFill>
          <a:blip r:embed="rId5"/>
          <a:stretch/>
        </p:blipFill>
        <p:spPr>
          <a:xfrm>
            <a:off x="1111320" y="3851280"/>
            <a:ext cx="4190760" cy="12002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"/>
          <p:cNvPicPr/>
          <p:nvPr/>
        </p:nvPicPr>
        <p:blipFill>
          <a:blip r:embed="rId6"/>
          <a:stretch/>
        </p:blipFill>
        <p:spPr>
          <a:xfrm>
            <a:off x="1182600" y="5137200"/>
            <a:ext cx="6600960" cy="16002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8" descr=""/>
          <p:cNvPicPr/>
          <p:nvPr/>
        </p:nvPicPr>
        <p:blipFill>
          <a:blip r:embed="rId7"/>
          <a:stretch/>
        </p:blipFill>
        <p:spPr>
          <a:xfrm>
            <a:off x="1325520" y="6902280"/>
            <a:ext cx="3448080" cy="6573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9" descr=""/>
          <p:cNvPicPr/>
          <p:nvPr/>
        </p:nvPicPr>
        <p:blipFill>
          <a:blip r:embed="rId8"/>
          <a:stretch/>
        </p:blipFill>
        <p:spPr>
          <a:xfrm>
            <a:off x="1111320" y="2637000"/>
            <a:ext cx="6819840" cy="7714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C:\Users\bershadskaya_vv\Desktop\Рисунок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424720" y="6805440"/>
            <a:ext cx="165600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"/>
          <p:cNvPicPr/>
          <p:nvPr/>
        </p:nvPicPr>
        <p:blipFill>
          <a:blip r:embed="rId1"/>
          <a:stretch/>
        </p:blipFill>
        <p:spPr>
          <a:xfrm>
            <a:off x="1182600" y="1351080"/>
            <a:ext cx="1981440" cy="3333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" descr=""/>
          <p:cNvPicPr/>
          <p:nvPr/>
        </p:nvPicPr>
        <p:blipFill>
          <a:blip r:embed="rId2"/>
          <a:stretch/>
        </p:blipFill>
        <p:spPr>
          <a:xfrm>
            <a:off x="1182600" y="1922400"/>
            <a:ext cx="8086680" cy="3524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"/>
          <p:cNvPicPr/>
          <p:nvPr/>
        </p:nvPicPr>
        <p:blipFill>
          <a:blip r:embed="rId3"/>
          <a:stretch/>
        </p:blipFill>
        <p:spPr>
          <a:xfrm>
            <a:off x="2468520" y="5637240"/>
            <a:ext cx="3657600" cy="7048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" descr=""/>
          <p:cNvPicPr/>
          <p:nvPr/>
        </p:nvPicPr>
        <p:blipFill>
          <a:blip r:embed="rId4"/>
          <a:stretch/>
        </p:blipFill>
        <p:spPr>
          <a:xfrm>
            <a:off x="1397160" y="136440"/>
            <a:ext cx="7362720" cy="561960"/>
          </a:xfrm>
          <a:prstGeom prst="rect">
            <a:avLst/>
          </a:prstGeom>
          <a:ln w="0">
            <a:noFill/>
          </a:ln>
        </p:spPr>
      </p:pic>
      <p:sp>
        <p:nvSpPr>
          <p:cNvPr id="663" name="TextBox 4"/>
          <p:cNvSpPr/>
          <p:nvPr/>
        </p:nvSpPr>
        <p:spPr>
          <a:xfrm>
            <a:off x="3182760" y="779400"/>
            <a:ext cx="3672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C:\Users\bershadskaya_vv\Desktop\Рисунок.jpg"/>
          <p:cNvPicPr/>
          <p:nvPr/>
        </p:nvPicPr>
        <p:blipFill>
          <a:blip r:embed="rId5"/>
          <a:stretch/>
        </p:blipFill>
        <p:spPr>
          <a:xfrm>
            <a:off x="8424720" y="6805440"/>
            <a:ext cx="1656000" cy="7542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0" descr=""/>
          <p:cNvPicPr/>
          <p:nvPr/>
        </p:nvPicPr>
        <p:blipFill>
          <a:blip r:embed="rId6"/>
          <a:stretch/>
        </p:blipFill>
        <p:spPr>
          <a:xfrm>
            <a:off x="754200" y="2494080"/>
            <a:ext cx="8477280" cy="10094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1" descr=""/>
          <p:cNvPicPr/>
          <p:nvPr/>
        </p:nvPicPr>
        <p:blipFill>
          <a:blip r:embed="rId7"/>
          <a:stretch/>
        </p:blipFill>
        <p:spPr>
          <a:xfrm>
            <a:off x="825480" y="3708360"/>
            <a:ext cx="847728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7" descr=""/>
          <p:cNvPicPr/>
          <p:nvPr/>
        </p:nvPicPr>
        <p:blipFill>
          <a:blip r:embed="rId1"/>
          <a:stretch/>
        </p:blipFill>
        <p:spPr>
          <a:xfrm>
            <a:off x="3897360" y="6854760"/>
            <a:ext cx="3657600" cy="7048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" descr=""/>
          <p:cNvPicPr/>
          <p:nvPr/>
        </p:nvPicPr>
        <p:blipFill>
          <a:blip r:embed="rId2"/>
          <a:stretch/>
        </p:blipFill>
        <p:spPr>
          <a:xfrm>
            <a:off x="1397160" y="136440"/>
            <a:ext cx="7362720" cy="561960"/>
          </a:xfrm>
          <a:prstGeom prst="rect">
            <a:avLst/>
          </a:prstGeom>
          <a:ln w="0">
            <a:noFill/>
          </a:ln>
        </p:spPr>
      </p:pic>
      <p:sp>
        <p:nvSpPr>
          <p:cNvPr id="669" name="TextBox 4"/>
          <p:cNvSpPr/>
          <p:nvPr/>
        </p:nvSpPr>
        <p:spPr>
          <a:xfrm>
            <a:off x="3182760" y="779400"/>
            <a:ext cx="3672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"/>
          <p:cNvPicPr/>
          <p:nvPr/>
        </p:nvPicPr>
        <p:blipFill>
          <a:blip r:embed="rId3"/>
          <a:stretch/>
        </p:blipFill>
        <p:spPr>
          <a:xfrm>
            <a:off x="1039680" y="5351400"/>
            <a:ext cx="6600960" cy="16002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"/>
          <p:cNvPicPr/>
          <p:nvPr/>
        </p:nvPicPr>
        <p:blipFill>
          <a:blip r:embed="rId4"/>
          <a:stretch/>
        </p:blipFill>
        <p:spPr>
          <a:xfrm>
            <a:off x="968400" y="1136520"/>
            <a:ext cx="4486320" cy="13813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C:\Users\bershadskaya_vv\Desktop\Рисунок.jpg"/>
          <p:cNvPicPr/>
          <p:nvPr/>
        </p:nvPicPr>
        <p:blipFill>
          <a:blip r:embed="rId5"/>
          <a:stretch/>
        </p:blipFill>
        <p:spPr>
          <a:xfrm>
            <a:off x="8424720" y="6805440"/>
            <a:ext cx="1656000" cy="7542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9" descr=""/>
          <p:cNvPicPr/>
          <p:nvPr/>
        </p:nvPicPr>
        <p:blipFill>
          <a:blip r:embed="rId6"/>
          <a:stretch/>
        </p:blipFill>
        <p:spPr>
          <a:xfrm>
            <a:off x="1039680" y="2779560"/>
            <a:ext cx="65008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>
            <a:off x="1539720" y="0"/>
            <a:ext cx="7229520" cy="695160"/>
          </a:xfrm>
          <a:prstGeom prst="rect">
            <a:avLst/>
          </a:prstGeom>
          <a:ln w="0">
            <a:noFill/>
          </a:ln>
        </p:spPr>
      </p:pic>
      <p:sp>
        <p:nvSpPr>
          <p:cNvPr id="675" name="TextBox 4"/>
          <p:cNvSpPr/>
          <p:nvPr/>
        </p:nvSpPr>
        <p:spPr>
          <a:xfrm>
            <a:off x="3182760" y="787320"/>
            <a:ext cx="3672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2"/>
          <a:stretch/>
        </p:blipFill>
        <p:spPr>
          <a:xfrm>
            <a:off x="1254240" y="1208160"/>
            <a:ext cx="2085840" cy="3427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3" descr=""/>
          <p:cNvPicPr/>
          <p:nvPr/>
        </p:nvPicPr>
        <p:blipFill>
          <a:blip r:embed="rId3"/>
          <a:stretch/>
        </p:blipFill>
        <p:spPr>
          <a:xfrm>
            <a:off x="1254240" y="1565280"/>
            <a:ext cx="3524040" cy="16765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"/>
          <p:cNvPicPr/>
          <p:nvPr/>
        </p:nvPicPr>
        <p:blipFill>
          <a:blip r:embed="rId4"/>
          <a:stretch/>
        </p:blipFill>
        <p:spPr>
          <a:xfrm>
            <a:off x="1254240" y="3351240"/>
            <a:ext cx="5705280" cy="7333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5" descr=""/>
          <p:cNvPicPr/>
          <p:nvPr/>
        </p:nvPicPr>
        <p:blipFill>
          <a:blip r:embed="rId5"/>
          <a:stretch/>
        </p:blipFill>
        <p:spPr>
          <a:xfrm>
            <a:off x="1254240" y="4208400"/>
            <a:ext cx="5114880" cy="7812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" descr=""/>
          <p:cNvPicPr/>
          <p:nvPr/>
        </p:nvPicPr>
        <p:blipFill>
          <a:blip r:embed="rId6"/>
          <a:stretch/>
        </p:blipFill>
        <p:spPr>
          <a:xfrm>
            <a:off x="1254240" y="4994280"/>
            <a:ext cx="4733640" cy="790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7" descr=""/>
          <p:cNvPicPr/>
          <p:nvPr/>
        </p:nvPicPr>
        <p:blipFill>
          <a:blip r:embed="rId7"/>
          <a:stretch/>
        </p:blipFill>
        <p:spPr>
          <a:xfrm>
            <a:off x="1254240" y="5851440"/>
            <a:ext cx="7781760" cy="7146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8" descr=""/>
          <p:cNvPicPr/>
          <p:nvPr/>
        </p:nvPicPr>
        <p:blipFill>
          <a:blip r:embed="rId8"/>
          <a:stretch/>
        </p:blipFill>
        <p:spPr>
          <a:xfrm>
            <a:off x="1254240" y="6637320"/>
            <a:ext cx="4657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280" y="2077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Arial"/>
              </a:rPr>
              <a:t>История метода рациона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539640" y="1565280"/>
            <a:ext cx="904104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8" descr=""/>
          <p:cNvPicPr/>
          <p:nvPr/>
        </p:nvPicPr>
        <p:blipFill>
          <a:blip r:embed="rId1"/>
          <a:stretch/>
        </p:blipFill>
        <p:spPr>
          <a:xfrm>
            <a:off x="896760" y="208080"/>
            <a:ext cx="4658040" cy="7239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2" descr=""/>
          <p:cNvPicPr/>
          <p:nvPr/>
        </p:nvPicPr>
        <p:blipFill>
          <a:blip r:embed="rId2"/>
          <a:stretch/>
        </p:blipFill>
        <p:spPr>
          <a:xfrm>
            <a:off x="968400" y="922320"/>
            <a:ext cx="3591000" cy="6858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3" descr=""/>
          <p:cNvPicPr/>
          <p:nvPr/>
        </p:nvPicPr>
        <p:blipFill>
          <a:blip r:embed="rId3"/>
          <a:stretch/>
        </p:blipFill>
        <p:spPr>
          <a:xfrm>
            <a:off x="968400" y="1636560"/>
            <a:ext cx="2638440" cy="7146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"/>
          <p:cNvPicPr/>
          <p:nvPr/>
        </p:nvPicPr>
        <p:blipFill>
          <a:blip r:embed="rId4"/>
          <a:stretch/>
        </p:blipFill>
        <p:spPr>
          <a:xfrm>
            <a:off x="1682640" y="2351160"/>
            <a:ext cx="6410520" cy="131436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" descr=""/>
          <p:cNvPicPr/>
          <p:nvPr/>
        </p:nvPicPr>
        <p:blipFill>
          <a:blip r:embed="rId5"/>
          <a:stretch/>
        </p:blipFill>
        <p:spPr>
          <a:xfrm>
            <a:off x="468360" y="3780000"/>
            <a:ext cx="6162480" cy="342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" descr=""/>
          <p:cNvPicPr/>
          <p:nvPr/>
        </p:nvPicPr>
        <p:blipFill>
          <a:blip r:embed="rId6"/>
          <a:stretch/>
        </p:blipFill>
        <p:spPr>
          <a:xfrm>
            <a:off x="6754680" y="3637080"/>
            <a:ext cx="3038760" cy="6951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7" descr=""/>
          <p:cNvPicPr/>
          <p:nvPr/>
        </p:nvPicPr>
        <p:blipFill>
          <a:blip r:embed="rId7"/>
          <a:stretch/>
        </p:blipFill>
        <p:spPr>
          <a:xfrm>
            <a:off x="468360" y="4708440"/>
            <a:ext cx="5533920" cy="324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"/>
          <p:cNvPicPr/>
          <p:nvPr/>
        </p:nvPicPr>
        <p:blipFill>
          <a:blip r:embed="rId8"/>
          <a:stretch/>
        </p:blipFill>
        <p:spPr>
          <a:xfrm>
            <a:off x="6111720" y="4565520"/>
            <a:ext cx="2543400" cy="6098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9" descr=""/>
          <p:cNvPicPr/>
          <p:nvPr/>
        </p:nvPicPr>
        <p:blipFill>
          <a:blip r:embed="rId9"/>
          <a:stretch/>
        </p:blipFill>
        <p:spPr>
          <a:xfrm>
            <a:off x="5254560" y="5780160"/>
            <a:ext cx="32958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539720" y="0"/>
            <a:ext cx="7229520" cy="695160"/>
          </a:xfrm>
          <a:prstGeom prst="rect">
            <a:avLst/>
          </a:prstGeom>
          <a:ln w="0">
            <a:noFill/>
          </a:ln>
        </p:spPr>
      </p:pic>
      <p:sp>
        <p:nvSpPr>
          <p:cNvPr id="693" name="TextBox 4"/>
          <p:cNvSpPr/>
          <p:nvPr/>
        </p:nvSpPr>
        <p:spPr>
          <a:xfrm>
            <a:off x="3182760" y="787320"/>
            <a:ext cx="3672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2" descr=""/>
          <p:cNvPicPr/>
          <p:nvPr/>
        </p:nvPicPr>
        <p:blipFill>
          <a:blip r:embed="rId2"/>
          <a:stretch/>
        </p:blipFill>
        <p:spPr>
          <a:xfrm>
            <a:off x="1182600" y="1351080"/>
            <a:ext cx="1981440" cy="3333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" descr=""/>
          <p:cNvPicPr/>
          <p:nvPr/>
        </p:nvPicPr>
        <p:blipFill>
          <a:blip r:embed="rId3"/>
          <a:stretch/>
        </p:blipFill>
        <p:spPr>
          <a:xfrm>
            <a:off x="1254240" y="1851120"/>
            <a:ext cx="3524040" cy="16761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" descr=""/>
          <p:cNvPicPr/>
          <p:nvPr/>
        </p:nvPicPr>
        <p:blipFill>
          <a:blip r:embed="rId4"/>
          <a:stretch/>
        </p:blipFill>
        <p:spPr>
          <a:xfrm>
            <a:off x="1325520" y="3708360"/>
            <a:ext cx="5638680" cy="6858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" descr=""/>
          <p:cNvPicPr/>
          <p:nvPr/>
        </p:nvPicPr>
        <p:blipFill>
          <a:blip r:embed="rId5"/>
          <a:stretch/>
        </p:blipFill>
        <p:spPr>
          <a:xfrm>
            <a:off x="1325520" y="4565520"/>
            <a:ext cx="4581720" cy="65736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6"/>
          <a:stretch/>
        </p:blipFill>
        <p:spPr>
          <a:xfrm>
            <a:off x="1325520" y="5351400"/>
            <a:ext cx="42292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4" descr=""/>
          <p:cNvPicPr/>
          <p:nvPr/>
        </p:nvPicPr>
        <p:blipFill>
          <a:blip r:embed="rId1"/>
          <a:stretch/>
        </p:blipFill>
        <p:spPr>
          <a:xfrm>
            <a:off x="1111320" y="208080"/>
            <a:ext cx="4228920" cy="7617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"/>
          <p:cNvPicPr/>
          <p:nvPr/>
        </p:nvPicPr>
        <p:blipFill>
          <a:blip r:embed="rId2"/>
          <a:stretch/>
        </p:blipFill>
        <p:spPr>
          <a:xfrm>
            <a:off x="1111320" y="1565280"/>
            <a:ext cx="7172280" cy="6858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4" descr=""/>
          <p:cNvPicPr/>
          <p:nvPr/>
        </p:nvPicPr>
        <p:blipFill>
          <a:blip r:embed="rId3"/>
          <a:stretch/>
        </p:blipFill>
        <p:spPr>
          <a:xfrm>
            <a:off x="1182600" y="1208160"/>
            <a:ext cx="2733840" cy="2952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" descr=""/>
          <p:cNvPicPr/>
          <p:nvPr/>
        </p:nvPicPr>
        <p:blipFill>
          <a:blip r:embed="rId4"/>
          <a:stretch/>
        </p:blipFill>
        <p:spPr>
          <a:xfrm>
            <a:off x="968400" y="3422520"/>
            <a:ext cx="3486240" cy="7714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7" descr=""/>
          <p:cNvPicPr/>
          <p:nvPr/>
        </p:nvPicPr>
        <p:blipFill>
          <a:blip r:embed="rId5"/>
          <a:stretch/>
        </p:blipFill>
        <p:spPr>
          <a:xfrm>
            <a:off x="968400" y="4065480"/>
            <a:ext cx="7143840" cy="6573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8" descr=""/>
          <p:cNvPicPr/>
          <p:nvPr/>
        </p:nvPicPr>
        <p:blipFill>
          <a:blip r:embed="rId6"/>
          <a:stretch/>
        </p:blipFill>
        <p:spPr>
          <a:xfrm>
            <a:off x="1111320" y="2351160"/>
            <a:ext cx="2085840" cy="9334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9" descr=""/>
          <p:cNvPicPr/>
          <p:nvPr/>
        </p:nvPicPr>
        <p:blipFill>
          <a:blip r:embed="rId7"/>
          <a:stretch/>
        </p:blipFill>
        <p:spPr>
          <a:xfrm>
            <a:off x="3468600" y="2708280"/>
            <a:ext cx="2571840" cy="63828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0" descr=""/>
          <p:cNvPicPr/>
          <p:nvPr/>
        </p:nvPicPr>
        <p:blipFill>
          <a:blip r:embed="rId8"/>
          <a:stretch/>
        </p:blipFill>
        <p:spPr>
          <a:xfrm>
            <a:off x="6397560" y="2779560"/>
            <a:ext cx="1533600" cy="5241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1" descr=""/>
          <p:cNvPicPr/>
          <p:nvPr/>
        </p:nvPicPr>
        <p:blipFill>
          <a:blip r:embed="rId9"/>
          <a:stretch/>
        </p:blipFill>
        <p:spPr>
          <a:xfrm>
            <a:off x="8326440" y="2708280"/>
            <a:ext cx="1352520" cy="5810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2" descr=""/>
          <p:cNvPicPr/>
          <p:nvPr/>
        </p:nvPicPr>
        <p:blipFill>
          <a:blip r:embed="rId10"/>
          <a:stretch/>
        </p:blipFill>
        <p:spPr>
          <a:xfrm>
            <a:off x="682560" y="4637160"/>
            <a:ext cx="8477280" cy="9525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3" descr=""/>
          <p:cNvPicPr/>
          <p:nvPr/>
        </p:nvPicPr>
        <p:blipFill>
          <a:blip r:embed="rId11"/>
          <a:stretch/>
        </p:blipFill>
        <p:spPr>
          <a:xfrm>
            <a:off x="1254240" y="5780160"/>
            <a:ext cx="7372080" cy="60948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4" descr=""/>
          <p:cNvPicPr/>
          <p:nvPr/>
        </p:nvPicPr>
        <p:blipFill>
          <a:blip r:embed="rId12"/>
          <a:stretch/>
        </p:blipFill>
        <p:spPr>
          <a:xfrm>
            <a:off x="6183360" y="6637320"/>
            <a:ext cx="3314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2" descr=""/>
          <p:cNvPicPr/>
          <p:nvPr/>
        </p:nvPicPr>
        <p:blipFill>
          <a:blip r:embed="rId1"/>
          <a:stretch/>
        </p:blipFill>
        <p:spPr>
          <a:xfrm>
            <a:off x="1539720" y="0"/>
            <a:ext cx="7229520" cy="695160"/>
          </a:xfrm>
          <a:prstGeom prst="rect">
            <a:avLst/>
          </a:prstGeom>
          <a:ln w="0">
            <a:noFill/>
          </a:ln>
        </p:spPr>
      </p:pic>
      <p:sp>
        <p:nvSpPr>
          <p:cNvPr id="712" name="TextBox 4"/>
          <p:cNvSpPr/>
          <p:nvPr/>
        </p:nvSpPr>
        <p:spPr>
          <a:xfrm>
            <a:off x="3182760" y="787320"/>
            <a:ext cx="3672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6" descr=""/>
          <p:cNvPicPr/>
          <p:nvPr/>
        </p:nvPicPr>
        <p:blipFill>
          <a:blip r:embed="rId2"/>
          <a:stretch/>
        </p:blipFill>
        <p:spPr>
          <a:xfrm>
            <a:off x="1111320" y="1208160"/>
            <a:ext cx="1942920" cy="3333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7" descr=""/>
          <p:cNvPicPr/>
          <p:nvPr/>
        </p:nvPicPr>
        <p:blipFill>
          <a:blip r:embed="rId3"/>
          <a:stretch/>
        </p:blipFill>
        <p:spPr>
          <a:xfrm>
            <a:off x="1039680" y="1636560"/>
            <a:ext cx="7048800" cy="6289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8" descr=""/>
          <p:cNvPicPr/>
          <p:nvPr/>
        </p:nvPicPr>
        <p:blipFill>
          <a:blip r:embed="rId4"/>
          <a:stretch/>
        </p:blipFill>
        <p:spPr>
          <a:xfrm>
            <a:off x="1254240" y="2208240"/>
            <a:ext cx="3514680" cy="16765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"/>
          <p:cNvPicPr/>
          <p:nvPr/>
        </p:nvPicPr>
        <p:blipFill>
          <a:blip r:embed="rId5"/>
          <a:stretch/>
        </p:blipFill>
        <p:spPr>
          <a:xfrm>
            <a:off x="1254240" y="3922560"/>
            <a:ext cx="6705360" cy="6670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0" descr=""/>
          <p:cNvPicPr/>
          <p:nvPr/>
        </p:nvPicPr>
        <p:blipFill>
          <a:blip r:embed="rId6"/>
          <a:stretch/>
        </p:blipFill>
        <p:spPr>
          <a:xfrm>
            <a:off x="1325520" y="4780080"/>
            <a:ext cx="6077160" cy="76176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1" descr=""/>
          <p:cNvPicPr/>
          <p:nvPr/>
        </p:nvPicPr>
        <p:blipFill>
          <a:blip r:embed="rId7"/>
          <a:stretch/>
        </p:blipFill>
        <p:spPr>
          <a:xfrm>
            <a:off x="1254240" y="5637240"/>
            <a:ext cx="30477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11" descr=""/>
          <p:cNvPicPr/>
          <p:nvPr/>
        </p:nvPicPr>
        <p:blipFill>
          <a:blip r:embed="rId1"/>
          <a:stretch/>
        </p:blipFill>
        <p:spPr>
          <a:xfrm>
            <a:off x="1182600" y="208080"/>
            <a:ext cx="3048120" cy="10285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2" descr=""/>
          <p:cNvPicPr/>
          <p:nvPr/>
        </p:nvPicPr>
        <p:blipFill>
          <a:blip r:embed="rId2"/>
          <a:stretch/>
        </p:blipFill>
        <p:spPr>
          <a:xfrm>
            <a:off x="1254240" y="1208160"/>
            <a:ext cx="7638840" cy="149544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3" descr=""/>
          <p:cNvPicPr/>
          <p:nvPr/>
        </p:nvPicPr>
        <p:blipFill>
          <a:blip r:embed="rId3"/>
          <a:stretch/>
        </p:blipFill>
        <p:spPr>
          <a:xfrm>
            <a:off x="1325520" y="2779560"/>
            <a:ext cx="1305000" cy="6382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" descr=""/>
          <p:cNvPicPr/>
          <p:nvPr/>
        </p:nvPicPr>
        <p:blipFill>
          <a:blip r:embed="rId4"/>
          <a:stretch/>
        </p:blipFill>
        <p:spPr>
          <a:xfrm>
            <a:off x="1325520" y="3565440"/>
            <a:ext cx="6905520" cy="16765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" descr=""/>
          <p:cNvPicPr/>
          <p:nvPr/>
        </p:nvPicPr>
        <p:blipFill>
          <a:blip r:embed="rId5"/>
          <a:stretch/>
        </p:blipFill>
        <p:spPr>
          <a:xfrm>
            <a:off x="5826240" y="5851440"/>
            <a:ext cx="32288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2"/>
          <p:cNvSpPr/>
          <p:nvPr/>
        </p:nvSpPr>
        <p:spPr>
          <a:xfrm>
            <a:off x="1039680" y="1136520"/>
            <a:ext cx="807264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феев В.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бщение метода интервалов // Математика в школе. 1969. №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убев 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тод замены множителей // Квант, 2006. №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а. ЕГЭ. Алгебра: задания с развёрнутым ответом: учебно-методическое пособие / Под ред. Ф. Ф. Лысенко, С. Ю. Кулабухова. — Ростов-на-Дону: Легион, 2016. — 36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кофьев А. А., Корянов А.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а. Подготовка к ЕГЭ: задание С3. Решение неравенств с одной переменной. — Ростов-на-Дону: Легион, 2014. — 176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а. Подготовка к ЕГЭ 2014: решаем задание С3 методом рационализации: учебно-методическое пособие / Под ред. Ф. Ф. Лысенко, С. Ю. Кулабухова. — Ростов-на-Дону: Легион, 2013. — 3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Рисунок 3" descr="алгебра. зад с разв ответом.jpg"/>
          <p:cNvPicPr/>
          <p:nvPr/>
        </p:nvPicPr>
        <p:blipFill>
          <a:blip r:embed="rId1"/>
          <a:stretch/>
        </p:blipFill>
        <p:spPr>
          <a:xfrm>
            <a:off x="2611440" y="4349880"/>
            <a:ext cx="2286000" cy="3209760"/>
          </a:xfrm>
          <a:prstGeom prst="rect">
            <a:avLst/>
          </a:prstGeom>
          <a:ln w="0">
            <a:noFill/>
          </a:ln>
        </p:spPr>
      </p:pic>
      <p:pic>
        <p:nvPicPr>
          <p:cNvPr id="727" name="Рисунок 4" descr="Математика. Решаем С3 методом рационализации.jpg"/>
          <p:cNvPicPr/>
          <p:nvPr/>
        </p:nvPicPr>
        <p:blipFill>
          <a:blip r:embed="rId2"/>
          <a:stretch/>
        </p:blipFill>
        <p:spPr>
          <a:xfrm>
            <a:off x="5326200" y="4392720"/>
            <a:ext cx="2214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1"/>
          <p:cNvSpPr/>
          <p:nvPr/>
        </p:nvSpPr>
        <p:spPr>
          <a:xfrm>
            <a:off x="738360" y="1874880"/>
            <a:ext cx="85723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Книги можно заказать в нашем интернет-магазине на сайте </a:t>
            </a:r>
            <a:r>
              <a:rPr b="1" lang="en-US" sz="4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www.legionr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прашивай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 книжных магазинах город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Объект 4" descr=""/>
          <p:cNvPicPr/>
          <p:nvPr/>
        </p:nvPicPr>
        <p:blipFill>
          <a:blip r:embed="rId1"/>
          <a:stretch/>
        </p:blipFill>
        <p:spPr>
          <a:xfrm>
            <a:off x="5675400" y="1319040"/>
            <a:ext cx="3822480" cy="38214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436680" y="1239840"/>
            <a:ext cx="4921200" cy="555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здательство регулярно проводит вебинары для педагогов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 завершении каждого вебинара участники получают электронные сертификат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сылки для участия вы сможете найти на сайте издательства </a:t>
            </a:r>
            <a:r>
              <a:rPr b="1" lang="en-US" sz="2600" spc="-1" strike="noStrike" u="sng">
                <a:solidFill>
                  <a:srgbClr val="002060"/>
                </a:solidFill>
                <a:uFillTx/>
                <a:latin typeface="Calibri"/>
              </a:rPr>
              <a:t>www.legionr.r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Текст 3"/>
          <p:cNvSpPr/>
          <p:nvPr/>
        </p:nvSpPr>
        <p:spPr>
          <a:xfrm>
            <a:off x="674640" y="6478560"/>
            <a:ext cx="87328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ru-RU" sz="2200" spc="-1" strike="noStrike">
                <a:solidFill>
                  <a:srgbClr val="991c0f"/>
                </a:solidFill>
                <a:latin typeface="Calibri"/>
              </a:rPr>
              <a:t>Все вебинары издательства «Легион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ru-RU" sz="2200" spc="-1" strike="noStrike">
                <a:solidFill>
                  <a:srgbClr val="991c0f"/>
                </a:solidFill>
                <a:latin typeface="Calibri"/>
              </a:rPr>
              <a:t>носят обучающий харак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Box 3"/>
          <p:cNvSpPr/>
          <p:nvPr/>
        </p:nvSpPr>
        <p:spPr>
          <a:xfrm>
            <a:off x="0" y="-347760"/>
            <a:ext cx="10080720" cy="81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legionrus@legionrus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  <a:ea typeface="Arial"/>
              </a:rPr>
              <a:t>Вступайте в группу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500" spc="-1" strike="noStrike">
                <a:solidFill>
                  <a:srgbClr val="991c0f"/>
                </a:solidFill>
                <a:latin typeface="Calibri"/>
                <a:ea typeface="Arial"/>
              </a:rPr>
              <a:t>«Издательство «Легион»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500" spc="-1" strike="noStrike">
                <a:solidFill>
                  <a:srgbClr val="991c0f"/>
                </a:solidFill>
                <a:latin typeface="Calibri"/>
                <a:ea typeface="Arial"/>
              </a:rPr>
              <a:t>в социальных сетях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  <a:ea typeface="Arial"/>
              </a:rPr>
              <a:t>Контакт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  <a:ea typeface="Arial"/>
              </a:rPr>
              <a:t>одноклассники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  <a:ea typeface="Arial"/>
              </a:rPr>
              <a:t>aceboo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  <a:ea typeface="Arial"/>
              </a:rPr>
              <a:t>Видео вебинаров смотрите на            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Arial"/>
              </a:rPr>
              <a:t>Адрес для корреспонденции: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Arial"/>
              </a:rPr>
              <a:t>344000, г. Ростов-на-Дону, а/я 55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Рисунок 1" descr=""/>
          <p:cNvPicPr/>
          <p:nvPr/>
        </p:nvPicPr>
        <p:blipFill>
          <a:blip r:embed="rId1"/>
          <a:stretch/>
        </p:blipFill>
        <p:spPr>
          <a:xfrm>
            <a:off x="3691080" y="3859200"/>
            <a:ext cx="396720" cy="396720"/>
          </a:xfrm>
          <a:prstGeom prst="rect">
            <a:avLst/>
          </a:prstGeom>
          <a:ln w="0">
            <a:noFill/>
          </a:ln>
        </p:spPr>
      </p:pic>
      <p:pic>
        <p:nvPicPr>
          <p:cNvPr id="734" name="Рисунок 2" descr=""/>
          <p:cNvPicPr/>
          <p:nvPr/>
        </p:nvPicPr>
        <p:blipFill>
          <a:blip r:embed="rId2"/>
          <a:stretch/>
        </p:blipFill>
        <p:spPr>
          <a:xfrm>
            <a:off x="3056040" y="457344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735" name="Рисунок 4" descr=""/>
          <p:cNvPicPr/>
          <p:nvPr/>
        </p:nvPicPr>
        <p:blipFill>
          <a:blip r:embed="rId3"/>
          <a:stretch/>
        </p:blipFill>
        <p:spPr>
          <a:xfrm>
            <a:off x="3787920" y="5129280"/>
            <a:ext cx="379440" cy="379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" descr="C:\Users\bershadskaya_vv\Desktop\ю.jpg"/>
          <p:cNvPicPr/>
          <p:nvPr/>
        </p:nvPicPr>
        <p:blipFill>
          <a:blip r:embed="rId4"/>
          <a:stretch/>
        </p:blipFill>
        <p:spPr>
          <a:xfrm>
            <a:off x="7500960" y="5462640"/>
            <a:ext cx="9558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280" y="2077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Arial"/>
              </a:rPr>
              <a:t>Теоретическая ос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254160" y="1494000"/>
            <a:ext cx="932652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280" y="2077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Arial"/>
              </a:rPr>
              <a:t>Идея метода рациона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539640" y="1494000"/>
            <a:ext cx="88264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280" y="1364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Arial"/>
              </a:rPr>
              <a:t>Пример замены множ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1039680" y="1422360"/>
            <a:ext cx="85726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280" y="1364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Arial"/>
              </a:rPr>
              <a:t>Таблица замены множ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539640" y="1279440"/>
            <a:ext cx="87868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6360" y="1707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1" lang="ru-RU" sz="5400" spc="-1" strike="noStrike">
                <a:solidFill>
                  <a:srgbClr val="262699"/>
                </a:solidFill>
                <a:latin typeface="Arial"/>
              </a:rPr>
              <a:t>Несколько пример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113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"/>
          <p:cNvPicPr/>
          <p:nvPr/>
        </p:nvPicPr>
        <p:blipFill>
          <a:blip r:embed="rId2"/>
          <a:stretch/>
        </p:blipFill>
        <p:spPr>
          <a:xfrm>
            <a:off x="325440" y="779400"/>
            <a:ext cx="4143240" cy="4240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"/>
          <p:cNvPicPr/>
          <p:nvPr/>
        </p:nvPicPr>
        <p:blipFill>
          <a:blip r:embed="rId3"/>
          <a:stretch/>
        </p:blipFill>
        <p:spPr>
          <a:xfrm>
            <a:off x="325440" y="1279440"/>
            <a:ext cx="2857320" cy="4842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"/>
          <p:cNvPicPr/>
          <p:nvPr/>
        </p:nvPicPr>
        <p:blipFill>
          <a:blip r:embed="rId4"/>
          <a:stretch/>
        </p:blipFill>
        <p:spPr>
          <a:xfrm>
            <a:off x="325440" y="1779480"/>
            <a:ext cx="4357800" cy="459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7" descr=""/>
          <p:cNvPicPr/>
          <p:nvPr/>
        </p:nvPicPr>
        <p:blipFill>
          <a:blip r:embed="rId5"/>
          <a:stretch/>
        </p:blipFill>
        <p:spPr>
          <a:xfrm>
            <a:off x="254160" y="3137040"/>
            <a:ext cx="4357440" cy="4870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" descr=""/>
          <p:cNvPicPr/>
          <p:nvPr/>
        </p:nvPicPr>
        <p:blipFill>
          <a:blip r:embed="rId6"/>
          <a:stretch/>
        </p:blipFill>
        <p:spPr>
          <a:xfrm>
            <a:off x="254160" y="5351400"/>
            <a:ext cx="5429160" cy="4510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"/>
          <p:cNvPicPr/>
          <p:nvPr/>
        </p:nvPicPr>
        <p:blipFill>
          <a:blip r:embed="rId7"/>
          <a:stretch/>
        </p:blipFill>
        <p:spPr>
          <a:xfrm>
            <a:off x="254160" y="5851440"/>
            <a:ext cx="2000160" cy="5097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0" descr=""/>
          <p:cNvPicPr/>
          <p:nvPr/>
        </p:nvPicPr>
        <p:blipFill>
          <a:blip r:embed="rId8"/>
          <a:stretch/>
        </p:blipFill>
        <p:spPr>
          <a:xfrm>
            <a:off x="4826160" y="6637320"/>
            <a:ext cx="4803480" cy="446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1" descr=""/>
          <p:cNvPicPr/>
          <p:nvPr/>
        </p:nvPicPr>
        <p:blipFill>
          <a:blip r:embed="rId9"/>
          <a:stretch/>
        </p:blipFill>
        <p:spPr>
          <a:xfrm>
            <a:off x="254160" y="2351160"/>
            <a:ext cx="7072200" cy="6555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2" descr=""/>
          <p:cNvPicPr/>
          <p:nvPr/>
        </p:nvPicPr>
        <p:blipFill>
          <a:blip r:embed="rId10"/>
          <a:stretch/>
        </p:blipFill>
        <p:spPr>
          <a:xfrm>
            <a:off x="254160" y="3780000"/>
            <a:ext cx="7072200" cy="6411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3" descr=""/>
          <p:cNvPicPr/>
          <p:nvPr/>
        </p:nvPicPr>
        <p:blipFill>
          <a:blip r:embed="rId11"/>
          <a:stretch/>
        </p:blipFill>
        <p:spPr>
          <a:xfrm>
            <a:off x="254160" y="4494240"/>
            <a:ext cx="70722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47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"/>
          <p:cNvPicPr/>
          <p:nvPr/>
        </p:nvPicPr>
        <p:blipFill>
          <a:blip r:embed="rId2"/>
          <a:stretch/>
        </p:blipFill>
        <p:spPr>
          <a:xfrm>
            <a:off x="325440" y="944640"/>
            <a:ext cx="5072040" cy="520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" descr=""/>
          <p:cNvPicPr/>
          <p:nvPr/>
        </p:nvPicPr>
        <p:blipFill>
          <a:blip r:embed="rId3"/>
          <a:stretch/>
        </p:blipFill>
        <p:spPr>
          <a:xfrm>
            <a:off x="254160" y="1611360"/>
            <a:ext cx="6786360" cy="6667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5" descr=""/>
          <p:cNvPicPr/>
          <p:nvPr/>
        </p:nvPicPr>
        <p:blipFill>
          <a:blip r:embed="rId4"/>
          <a:stretch/>
        </p:blipFill>
        <p:spPr>
          <a:xfrm>
            <a:off x="254160" y="3279600"/>
            <a:ext cx="7286400" cy="5749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"/>
          <p:cNvPicPr/>
          <p:nvPr/>
        </p:nvPicPr>
        <p:blipFill>
          <a:blip r:embed="rId5"/>
          <a:stretch/>
        </p:blipFill>
        <p:spPr>
          <a:xfrm>
            <a:off x="325440" y="4851360"/>
            <a:ext cx="4995720" cy="5317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"/>
          <p:cNvPicPr/>
          <p:nvPr/>
        </p:nvPicPr>
        <p:blipFill>
          <a:blip r:embed="rId6"/>
          <a:stretch/>
        </p:blipFill>
        <p:spPr>
          <a:xfrm>
            <a:off x="396720" y="5565600"/>
            <a:ext cx="4143600" cy="4986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8" descr=""/>
          <p:cNvPicPr/>
          <p:nvPr/>
        </p:nvPicPr>
        <p:blipFill>
          <a:blip r:embed="rId7"/>
          <a:stretch/>
        </p:blipFill>
        <p:spPr>
          <a:xfrm>
            <a:off x="396720" y="6280200"/>
            <a:ext cx="2357640" cy="5014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9" descr=""/>
          <p:cNvPicPr/>
          <p:nvPr/>
        </p:nvPicPr>
        <p:blipFill>
          <a:blip r:embed="rId8"/>
          <a:stretch/>
        </p:blipFill>
        <p:spPr>
          <a:xfrm>
            <a:off x="3111480" y="6280200"/>
            <a:ext cx="5929200" cy="514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0" descr=""/>
          <p:cNvPicPr/>
          <p:nvPr/>
        </p:nvPicPr>
        <p:blipFill>
          <a:blip r:embed="rId9"/>
          <a:stretch/>
        </p:blipFill>
        <p:spPr>
          <a:xfrm>
            <a:off x="2968560" y="7074000"/>
            <a:ext cx="6858000" cy="485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1" descr=""/>
          <p:cNvPicPr/>
          <p:nvPr/>
        </p:nvPicPr>
        <p:blipFill>
          <a:blip r:embed="rId10"/>
          <a:stretch/>
        </p:blipFill>
        <p:spPr>
          <a:xfrm>
            <a:off x="396720" y="2637000"/>
            <a:ext cx="7072560" cy="6555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3" descr=""/>
          <p:cNvPicPr/>
          <p:nvPr/>
        </p:nvPicPr>
        <p:blipFill>
          <a:blip r:embed="rId11"/>
          <a:stretch/>
        </p:blipFill>
        <p:spPr>
          <a:xfrm>
            <a:off x="468360" y="4065480"/>
            <a:ext cx="70722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9:25:21Z</dcterms:created>
  <dc:creator>Сергей</dc:creator>
  <dc:description/>
  <dc:language>en-US</dc:language>
  <cp:lastModifiedBy>Kulabuhov</cp:lastModifiedBy>
  <cp:lastPrinted>2010-01-18T09:03:24Z</cp:lastPrinted>
  <dcterms:modified xsi:type="dcterms:W3CDTF">2019-10-29T03:28:18Z</dcterms:modified>
  <cp:revision>1231</cp:revision>
  <dc:subject/>
  <dc:title>Издательство «Легион»</dc:title>
</cp:coreProperties>
</file>